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0633"/>
        <c:axId val="1152768"/>
      </c:barChart>
      <c:catAx>
        <c:axId val="1120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2768"/>
        <c:crosses val="autoZero"/>
        <c:auto val="1"/>
        <c:lblAlgn val="ctr"/>
        <c:lblOffset val="100"/>
        <c:noMultiLvlLbl val="0"/>
      </c:catAx>
      <c:valAx>
        <c:axId val="1152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0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16C-D785-486C-B87F-F5863BC5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F1E-F1D5-4EBA-BE20-36D76027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037-6952-4D37-95B7-B725EC3B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3C2-8003-4507-B8BC-873A17C7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30B-A287-4074-A3CE-D43FF6A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D2A-700B-4EC8-89CE-FE11E889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B26-A35F-44A2-802F-736B806D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34B-5493-49E1-817C-D7CE163C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4C5-A044-4CDE-BFC8-D29BDA31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B6D-421F-40B9-AC7D-F9324B4D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C5D-CE5A-4FD4-8713-B64CCA4E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B5A-AA50-4A03-ADA1-07B59BFD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FA18E-31C7-4797-92A3-9F5CC4EFB1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