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75C67-2970-473B-9295-0C35A53B1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E1B24-AA51-4867-88AB-386AFB78B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0434B-0190-4791-926F-72CFD1C32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0B3A5-6409-494C-ACC1-143E46637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428F9-44AF-4E16-AB22-D9F91394C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0FAC2-4BC0-4B70-8BAB-53127646B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E4E01-D997-436D-B6D7-0C62C47AF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4A70F-639A-4A08-B2F3-6071333D1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CB804-9C29-4BBC-9B3C-681F09F38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61819-ECBC-4566-8956-8FBC51A55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1E41F-DA1D-4B10-9CB5-A95AC27C6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E51E3-EAD6-45B8-AA2D-A3A232438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72BDAE8-EFE6-434C-96F3-3A05F30332B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1486337-363E-490F-A165-EFDC73D3ED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rome t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ome te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4T21:58:53Z</dcterms:created>
  <dc:creator>Deepak Gopal</dc:creator>
  <dc:description/>
  <dc:language>en-US</dc:language>
  <cp:lastModifiedBy>Deepak Gopal</cp:lastModifiedBy>
  <dcterms:modified xsi:type="dcterms:W3CDTF">2010-11-24T21:59:21Z</dcterms:modified>
  <cp:revision>1</cp:revision>
  <dc:subject/>
  <dc:title>Chrome test</dc:title>
</cp:coreProperties>
</file>