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255785"/>
        <c:axId val="77063313"/>
      </c:barChart>
      <c:catAx>
        <c:axId val="792557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63313"/>
        <c:crosses val="autoZero"/>
        <c:auto val="1"/>
        <c:lblAlgn val="ctr"/>
        <c:lblOffset val="100"/>
        <c:noMultiLvlLbl val="0"/>
      </c:catAx>
      <c:valAx>
        <c:axId val="770633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557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52F0-A37C-40F1-8A48-1FE1F6EC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C009-6837-4503-860E-DF0C463B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6D7F-779B-42D0-A908-F06396C79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E090-E4B9-44EE-B2CC-D10740B1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9516-BD3F-47D4-BF98-3CA9FB21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5785-C04D-469A-9FDC-A8EC1317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DD8D-1743-4C95-B75B-21B9C0F9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4892-95FE-4F66-85B4-4485D422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397C-E25C-4474-9E10-8666166F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F1E3-391D-4A05-A6C4-312749E3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3082-398C-4500-A7F4-2F8B6FCB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288D-F6EE-4A4D-9AD3-199766B1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1F1BB-E221-48C1-98DA-D8AB3D1113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