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16DE92-6083-495B-BD33-95C7AC5A3F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16D341-2453-492C-B886-CFCC592B33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2B3546-FB60-4DF9-9F33-B00F99EA6F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F6F1F0-E541-4AED-9896-B46C07AB14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AC122C7-4C57-4DFA-8B69-F745ED2E897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F611F2-DC14-48E9-82C0-AC17D3EA4A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CF9C20-17E3-4B29-B055-8F1CF6EE06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6CA89D-7BA5-43B9-9588-F4544D4636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1D28C0-32F3-4B83-A964-0290512105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91E0ED-9BC6-4E49-8A5C-81BFCF6A32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B2D80C-DA4E-4E9A-84D8-63474084D5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5CD312-BD89-4B88-98CF-A0032F7175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892CF4-CA65-4DB5-820F-38C865D782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907563-A942-45B5-8AC6-39C5AA958C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5DDF67-D839-4963-B9DE-2F12ABCCFE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19239F0-BC75-4755-87EC-7AFB2033D6C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EC21926-17FF-49E2-99A2-45DED0ADA5D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F9104A-02E7-43AC-BB70-2BF2DD180A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3D4871-2B4F-4870-AFD3-E92A695EC0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4CAC33-6897-4A38-BFB3-60EAD459A9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3F0D54-4066-4D9A-94D8-922E59F48C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239354-1306-4B87-84B6-907131FF62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084DCA-AADB-41B7-B417-343C8F5D50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1B3029-D009-4CBF-B7D2-65BB9C4D1AB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90119F-EB00-417E-A1CD-F457865FA95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2980D8-431D-4690-8828-CB7B0F2A44F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A91399C-8C1E-462C-98EB-C6DAEC34974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259A541-209C-4191-A0AC-18C52124AAC3}"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E99CFD-4202-41B0-B1A8-CF2986EF507E}"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67ABF4-F623-430D-B942-D10D8F63FFF2}"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6F1528-46FE-45C5-A96E-658C5B33C7FE}"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C8EE26-7EE3-4789-ADDF-F54159235D7B}"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7FBEFD-8BA4-4B10-9915-E8D6BE84A66B}"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1C0D91-E034-4473-A249-51848437E9CF}"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A94EEB-FAD4-49B8-BB24-B99D81BCB165}"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E49A45-741B-40AB-917A-B7317F0EA2C8}"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A56375-33E6-4252-9FFD-70E710F495C7}"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FBE6A9-5C0C-47F7-BBCC-F62314E4E106}"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F1364C-ADEB-4540-970F-73F883150305}"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5C52FF-711E-49A7-BDFC-E7B6C213AC7C}"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6959EA-4F06-42E4-96B2-059FEA50742C}"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AE8B81-C09E-40AE-A30B-4E93F61B88B9}"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BA5E64-9A5B-477E-A464-3B9F10D66A7F}"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347347-16A3-44CA-9833-9688694CC8B3}"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130444-04B1-417B-809C-6748C5D73D13}"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3DB8CD-5B99-4971-A0B4-516FA925C58D}"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42983A-BB65-4285-898B-CB7921D422B2}"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83F30A-07F3-4A42-9698-E07E2E2AD750}"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01422B-B8BC-4DD4-86CF-D7855D774CA2}"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4FB27B-8B8D-4AAB-8212-AF718030D8A0}"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5CEB2B-3F2B-48A1-8DA8-CB084562A9A1}"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BE7EC2-D21B-4F65-AAE4-AFCCE3119E54}"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4450F5-9E35-4CCC-8405-1AA8688B7DB4}"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627E1F8-DDDE-4522-AB93-C709BA3E6EAA}"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9E72CF-CA19-49E2-9051-A0FCC2AE8F6C}"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2787F1-566B-4289-B437-A57C2A02BFEA}"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1E620C-2252-4993-BF1B-7574B4F86AC3}"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8340A3-60E5-4735-97D9-F8580CBB4B39}"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DDBE3A-8CA0-4C19-A178-1510C87F99AE}"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6CFBF2-185E-40A7-AA03-BFBC6B142CF4}"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827ADE-0540-403A-AE21-ABD10259D82E}"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884233-2D37-49E8-9E43-A3C0A760AC0A}"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CD2101-1F33-4319-8F25-2FD59711749A}"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DB4E4B-C114-4C34-B94E-8A7FF72CD412}"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4FA61C-04CA-43EA-9C35-8587B070A27D}"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39BE16-705A-4316-8A6A-435DEDB02E77}"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BE9B69-0C1F-487E-A6CB-258F4E2A94DA}"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05BA4C-C107-4F86-873D-6C127BCD2837}"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F93802-3F56-44E0-82FD-F2118E598A6A}"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8BA096-FC70-41DC-BBDB-9E71302BC73D}"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CA576D-322F-43E6-8549-16D17C72FAC6}"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531176-F716-4C47-8B02-0954908C9C6E}"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E1FC3D-267D-4784-A521-DAA072F965AA}"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ACD824-BF55-4A64-BA9B-327822F78551}"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C0D18C8-364D-4CC7-A97C-FC0795C69E86}"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FED9D2-AF10-4569-B36A-B89BCA20D4B1}"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B0B039-2DCC-412D-8491-35B043D4E1A2}"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A4E43BC-16FD-4ECC-B7F8-52724281A410}"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D9A0A4-10BE-473F-A05D-65DC56EF0FC4}"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E9E66C-DD58-47D1-AE8D-E97C3710EF17}"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19BDC3-FB33-4D1F-8DD6-0436839818FD}"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3D9321-4723-40CC-AA66-0543135C504A}"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B0DB0E-8E27-4765-8F91-5D66210A1164}"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480D78-BC9A-4DF4-8BA9-E2B8C4A3E8EE}"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73217B-B775-422C-AFB0-F1C7414D2763}"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29D83C5-56F0-4CC4-A3A4-79A7A511DEA0}"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F80350-F594-4B1C-BE4D-89A9C36C0A45}"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A1D253-A9A4-4C1B-BA68-5362E7814D7A}"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6B5E00-DEDB-495D-9F0E-40B9EC07DA58}"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BC5209-80D9-4D6F-8A52-92A8B449ACFB}"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1FAAD2-DEF2-45F1-A70E-63255B4BDC9E}"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B81B4F2-78EF-4DA7-915F-505D9270169B}"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22DE24-2963-4564-BD41-465455EB3F0D}"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261639-E482-4116-952A-F7EEFF2EAC5C}"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BF671E-9F16-494C-A8C6-AC7A16DA5438}"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A122F5-DCAD-4354-BC80-F03CF447F6A6}"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2CE1494-62B8-4E49-96F8-F48EFB785205}"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FF1BA7-8B0B-4887-8AE8-EA00856D6C13}"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5FED63-E1DF-43D2-B51E-D6C54F042C11}"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649C2C-FCDB-4A9B-9E83-0D40FD12B3E8}"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8DF169-0609-4D4D-90FA-684C5C2B5EF4}"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C6A925-3B2E-43F2-9D73-76A8D280C277}"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369F02-2974-4230-AD20-B8ABBF92AE5E}"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D70B023-F32D-426F-9CEC-8479B672E50B}"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2EC470-E5FC-43E2-AF7E-20DD076F014F}"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1B2C3E-85BE-4364-88A2-4A008ADF7088}"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11DD35-4AA4-42F4-BAB0-F7C020331CC1}"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87B215A-3469-4CA0-9708-B29264960FBE}"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4D1686-3D27-4E8B-8CE0-9A23EE117C19}"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ADFD4AA-9952-4B73-8078-F5A26B98FC94}"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E07CA4-6F7B-4539-B8EB-76F8F8955852}"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F5A78E-110A-45E3-A061-C8206A1128FE}"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F95F53-A3F8-4E87-B0D8-9E7240507CF5}"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E8BAA5-19E1-47B8-A95D-53403921423D}"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2A1DF2-3D25-44CD-923F-1753CD88053A}"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9A4871-C073-4D02-976C-D556D2168C36}"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17B9F3-61B2-4598-898E-F0964C58CD4A}"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A59F98-2917-455C-B8E1-8667DA3A1040}"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FB9424-88B8-4059-8FDA-ADB5DD8CB2A0}"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71C507-0FF2-4FAB-A349-62EB5A22D99C}"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7B4A31-188B-4DCF-B53D-C67D1F908A9C}"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E12659-CCAF-475E-AC52-2F730FA46899}"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513EDD-8EA3-4EE9-A97B-C421041905E6}"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1762DD-6867-4526-8F18-41F3E31E93B7}"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6738A8-5969-4342-ACFF-F8DAED00CBF4}"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DF36028-383F-4736-881D-FF7AD1AD97F9}"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91BA97-0344-4D06-8D6A-73EBB5B59A61}"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52B28C-AB76-4C52-AA4E-0C9D885365A8}"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76D741-5661-4F4F-B160-5777183E5E0A}"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EA918B-FA62-4249-92F1-5830EC4AF0F9}"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848825-DCC0-4C96-ABC9-DC4D5DC6361C}"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D9A356-5A26-41DF-838A-F4C6ABF00BDF}"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DA831D-F354-452B-A9EB-A4BC6ECA79D4}"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D101E4-8EED-4C77-8F6E-DF933EA777E6}"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FAC46E-B957-4049-9954-80BED7CA9778}"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2BFBF6-56F0-42E8-A0D0-CA07F84C7720}"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6E7151-96EB-4725-9937-BBC86BE037C7}"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F7A6C3-89ED-46C6-A906-B3F741BA3C9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06A143-D4EB-4BD9-8359-879C96E64456}"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9A1DA0-71D8-42EF-9D3B-DE6BE6793AE6}"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475E07-A952-44D7-85CC-8FE0EF4DCE4B}"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582408-A5A5-47B8-81FD-C745128604DC}"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7D6B5F-33FA-4B11-8644-B52D2921A636}"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7B1E0C-9116-4F7D-90C4-3084E3C737DB}"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8AF11D-8B6C-43BC-95E9-117E73126B31}"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77F67E-35AA-4AC1-AE32-23C3D5ED27AB}"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0DB1CF-0CC7-4407-BB52-9E5EAA9CE0E5}"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DC84F0-E9F9-445E-A71D-291055D3D429}"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E01AF8-64C7-4C94-B997-6A9A6D312D93}"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1AAB9B-720A-41CA-B8D4-9633CC34D3CC}"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F16F5A-6B02-4031-BF43-40DA283E0B0C}"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91ECC3-0BA0-4F76-8ADA-2CDF3810C56E}"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B26DAB-AB6E-46C0-BF83-25373E61F3FF}"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ABC8753-0B6A-40F6-ADC8-446462140B66}"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19B0BB-F643-43EB-831D-3CB050CECEB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FC8596-6741-4718-9F43-8C0486691D8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4DC52B-34EB-446F-B9AB-12FA794F25A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D754D3-3937-4BB5-8325-CCBB00B130E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A95071-6694-4243-B3D8-EB43C55771D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A9249A-381F-4AF1-8823-65452DD3BED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2B221BD-56C7-4AFE-BB83-F52D3DDD7DE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79DE05-555F-48E3-869C-4294046A2B3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2B7A2C-6583-4183-8238-D067F4D1898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A272DF-B47E-45D9-B884-6F12370CBA8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96B150-25D6-4C8C-901B-B36055C53A7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E9ED59-99B4-4EB1-98A0-9B1CCB0DEDA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818FE6-6EAB-442E-8695-85AAE92DF85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6B1508-FB3E-48CF-80A1-3B0928D793D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98C8DE-41BC-4A57-B50D-7EA64CEF8FD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FDAF97-3CA9-40A5-B663-8D0C2492E14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89EC2C-8527-4340-9C5E-C5DA3DDB0AE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DA2C08-ED64-4CF9-93C2-7B9EEEFE00B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031B39-3966-45DB-AC22-9D6143A4A5B1}"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97B625-A523-4EB1-AA2D-450AC28C68FC}"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EA976C-0933-42FF-BF25-3ED20D3F2DDA}"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C78922-E836-4FAD-99F1-1BC328AE4BB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87E937-6ABA-4033-83C2-E80C48415D9A}"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6DE74A-2B94-4C88-ADCF-BA6FB3AF8589}"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1A258B-9FEA-4CCB-9CC2-76A827BF79F6}"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9B5C19-84CE-4C5D-80B2-1E6FCE68B0F4}"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6FA03A-9E81-4186-BDA5-FA82F17F314D}"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1802DC-D948-443D-88A1-C1B323708672}"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8E3457-B304-4FAF-A5D4-C8BFEC6CB7A8}"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715487-15D3-4794-9294-C937C1B2FAD6}"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AE5E35-DC18-403B-96F2-1B7B39BB2E5C}"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281194-F398-4EC1-B0CC-53ADE949D557}"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08721F-6EAC-491A-83D3-05C5B7C47664}"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4E428F-0381-4AB2-BE06-47EAB289A209}"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F40DBE-6C7F-419C-B26C-BE714D6D2B0B}"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B9CDD0-752A-4066-953E-11FD9620C3A3}"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AD4374-7D1A-4CF3-ADBC-A2FD8DDD20EF}"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02D903-55FD-4858-9B37-B05F5CC40351}"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58BCA2-D426-4D0A-91EE-2A761DAB3533}"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394A41-0E23-4B16-86BD-CFB168D40E88}"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B22CCE-747B-4391-AFBE-F7AFC887BB7A}"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1F7C81-F2E2-415B-91EA-B160787359BF}"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179568-3EE8-41B0-8775-2F1A30E5DDBE}"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26600B-F45C-4876-8463-363E2F867740}"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B6DA29-41C1-4FCB-AE1C-2DDA82E8C68F}"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142E62-AC48-4CB9-BF17-8C52067501DE}"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564E0F-1920-4521-BC7B-93FEBC6B85AE}"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21AFD70-2564-4ABB-97A9-5615CC02CBF4}"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8899DA-D322-48E0-ADC2-148B764520DC}"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242E17-3802-4B71-89C4-402D862A0AC0}"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152092-254C-45D2-B4D8-95914AB6CD3B}"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3E2E05-777D-41A7-8A36-9CEB9F9C3427}"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5F0520-42E6-4CDF-B953-B88E626F4B59}"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A8F488-1196-47A1-89D2-E257F87B8025}"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7D90C6-B84B-4E25-8289-8AF1059D99F6}"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2C9CBE-8619-4805-B384-B07070781085}"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3A06DA4-8754-49EE-8EA7-30C30BC60F6F}"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F347FD-8CDE-42CA-A507-DAF74F992053}"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FC09BC-3926-449F-915E-64278DD31ECD}"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8FA167-6B8B-40BA-A84F-6AD817C1C5B6}"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85BAB4-359C-4B24-9C0F-10F1EACCFBEF}"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DCD95A-A1F6-4ABC-A983-C8F0B83DF75E}"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A7CB80-07C2-451E-A07E-2A0ADD371992}"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402477-A9CC-42C8-8DEF-5300A46D3368}"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892413-B36A-4396-B8F1-7DECD80A5397}"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4D0CB0-B114-4C46-869B-DAED58F55429}"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B292FE-56B0-4C64-90E2-AC78711D9BD3}"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355EFC-86C5-4657-8ACE-53A8A6C45322}"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088639-9B7C-4832-950A-CB8399648785}"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BF8D20-7213-4E62-A962-FA36C61424D0}"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9E05E8-0F80-45DC-BC0B-0AA1B83D2119}"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3565AB1-B412-405B-96C0-D8AB08EAE900}"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C3F213-148A-40BE-97EF-563FB4CC0F35}"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B9BCE2-D2FF-4CD5-AE92-FBA2B8AF14F7}"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890D16-AB20-4869-B105-2C1DC15E9062}"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1666D1-910D-4D6C-9EFD-CF606AF3A0E1}"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2D4704-9491-42E5-B5E6-EFA60F2B13A5}"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0566E4-7C4A-4247-9095-13CDF5C48E43}"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A8C3E0-B9D0-44B7-8FEB-87F1F6B4C359}"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369CEF-2D16-4FED-8A35-AA34C7AE11D3}"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0F5C9C-7E6F-4B20-8FC2-FFADB963968B}"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36C658-C597-4DCE-89AC-9DA3EC748118}"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D2A492-8A94-468B-A74A-6647E6F8B25D}"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4E329B-A20F-4FF1-87EE-08501AF4574F}"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C47707-3CCA-41D2-BC0B-82AEB522F4C6}"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